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5.png" ContentType="image/png"/>
  <Override PartName="/ppt/media/image13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35.wmf" ContentType="image/x-wmf"/>
  <Override PartName="/ppt/media/image12.wmf" ContentType="image/x-wmf"/>
  <Override PartName="/ppt/media/image4.png" ContentType="image/png"/>
  <Override PartName="/ppt/media/image36.wmf" ContentType="image/x-wmf"/>
  <Override PartName="/ppt/media/image37.wmf" ContentType="image/x-wmf"/>
  <Override PartName="/ppt/media/image38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40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7.wmf" ContentType="image/x-wmf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BBC6-BC3E-48D8-9902-EAA45BF2141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8EE1-7921-43B1-8032-83118B41370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FE56-1362-4465-A834-15E29B91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622-62CF-45F9-A93A-477D64D3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96A-CFF1-4F44-8D01-60265A00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D66-BEC7-48E2-A351-60A250D0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737E-5171-4743-8F0F-C7F486BB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9648-6F12-46DB-A1F7-C42513F3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D25-AFD4-43F5-B6D4-AACAC958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4B25-965F-4DAD-AF48-48EFEAA1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7B8F-EC16-4FEB-B02F-E3040157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38AD-74D7-41BD-A5E2-0757E973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C678-C0F3-400E-882B-0A9CE5BD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A273-501C-4B20-967A-90837584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272B-F9E6-47A2-A3B9-B24CF1A08C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package" Target="../embeddings/oleObject2.docx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0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3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4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15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16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17.wmf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9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0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21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17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2.wmf"/><Relationship Id="rId18" Type="http://schemas.openxmlformats.org/officeDocument/2006/relationships/package" Target="../embeddings/oleObject7.docx"/><Relationship Id="rId19" Type="http://schemas.openxmlformats.org/officeDocument/2006/relationships/image" Target="../media/image23.wmf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4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5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6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27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28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29.wm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0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1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32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33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34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35.wmf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7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38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39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40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302112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4.1.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可分离变量的微分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1357200" y="1214280"/>
          <a:ext cx="7135920" cy="1571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57200" y="1214280"/>
                    <a:ext cx="713592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4264200" y="4428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分离变量的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43" descr="question-red.png"/>
          <p:cNvPicPr/>
          <p:nvPr/>
        </p:nvPicPr>
        <p:blipFill>
          <a:blip r:embed="rId8"/>
          <a:stretch/>
        </p:blipFill>
        <p:spPr>
          <a:xfrm>
            <a:off x="571680" y="785880"/>
            <a:ext cx="86328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Object 29"/>
          <p:cNvGraphicFramePr/>
          <p:nvPr/>
        </p:nvGraphicFramePr>
        <p:xfrm>
          <a:off x="928800" y="2357280"/>
          <a:ext cx="7358040" cy="26463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75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28800" y="2357280"/>
                    <a:ext cx="735804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1"/>
          <p:cNvSpPr/>
          <p:nvPr/>
        </p:nvSpPr>
        <p:spPr>
          <a:xfrm>
            <a:off x="4264200" y="4428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分离变量的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8" name="Object 2"/>
          <p:cNvGraphicFramePr/>
          <p:nvPr/>
        </p:nvGraphicFramePr>
        <p:xfrm>
          <a:off x="714240" y="714240"/>
          <a:ext cx="8021880" cy="2357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4240" y="714240"/>
                    <a:ext cx="802188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27"/>
          <p:cNvGraphicFramePr/>
          <p:nvPr/>
        </p:nvGraphicFramePr>
        <p:xfrm>
          <a:off x="785880" y="2786040"/>
          <a:ext cx="7605720" cy="30718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01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5880" y="2786040"/>
                    <a:ext cx="7605720" cy="30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2"/>
          <p:cNvSpPr/>
          <p:nvPr/>
        </p:nvSpPr>
        <p:spPr>
          <a:xfrm>
            <a:off x="4264200" y="4428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分离变量的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1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2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4" name="Object 2"/>
          <p:cNvGraphicFramePr/>
          <p:nvPr/>
        </p:nvGraphicFramePr>
        <p:xfrm>
          <a:off x="1071720" y="642960"/>
          <a:ext cx="7286400" cy="15699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71720" y="642960"/>
                    <a:ext cx="72864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3"/>
          <p:cNvGraphicFramePr/>
          <p:nvPr/>
        </p:nvGraphicFramePr>
        <p:xfrm>
          <a:off x="1785960" y="2071800"/>
          <a:ext cx="6715080" cy="19288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85960" y="2071800"/>
                    <a:ext cx="671508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4"/>
          <p:cNvGraphicFramePr/>
          <p:nvPr/>
        </p:nvGraphicFramePr>
        <p:xfrm>
          <a:off x="714240" y="3714840"/>
          <a:ext cx="7575840" cy="207144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14240" y="3714840"/>
                    <a:ext cx="7575840" cy="20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2"/>
          <p:cNvGraphicFramePr/>
          <p:nvPr/>
        </p:nvGraphicFramePr>
        <p:xfrm>
          <a:off x="1000080" y="1143000"/>
          <a:ext cx="4643640" cy="101916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31" name="Object 1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00080" y="1143000"/>
                    <a:ext cx="4643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7"/>
          <p:cNvGraphicFramePr/>
          <p:nvPr/>
        </p:nvGraphicFramePr>
        <p:xfrm>
          <a:off x="785880" y="1571760"/>
          <a:ext cx="3149640" cy="97308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85880" y="1571760"/>
                    <a:ext cx="31496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8"/>
          <p:cNvGraphicFramePr/>
          <p:nvPr/>
        </p:nvGraphicFramePr>
        <p:xfrm>
          <a:off x="857160" y="2143080"/>
          <a:ext cx="1287720" cy="65556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135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57160" y="2143080"/>
                    <a:ext cx="12877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0"/>
          <p:cNvSpPr/>
          <p:nvPr/>
        </p:nvSpPr>
        <p:spPr>
          <a:xfrm>
            <a:off x="4264200" y="4428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分离变量的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5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5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8" name="Object 2"/>
          <p:cNvGraphicFramePr/>
          <p:nvPr/>
        </p:nvGraphicFramePr>
        <p:xfrm>
          <a:off x="571680" y="714240"/>
          <a:ext cx="8072280" cy="2357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5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680" y="714240"/>
                    <a:ext cx="807228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3"/>
          <p:cNvGraphicFramePr/>
          <p:nvPr/>
        </p:nvGraphicFramePr>
        <p:xfrm>
          <a:off x="1357200" y="3571920"/>
          <a:ext cx="5954760" cy="12859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57200" y="3571920"/>
                    <a:ext cx="59547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2"/>
          <p:cNvGraphicFramePr/>
          <p:nvPr/>
        </p:nvGraphicFramePr>
        <p:xfrm>
          <a:off x="1285920" y="1571760"/>
          <a:ext cx="4643280" cy="10191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63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85920" y="1571760"/>
                    <a:ext cx="46432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7"/>
          <p:cNvGraphicFramePr/>
          <p:nvPr/>
        </p:nvGraphicFramePr>
        <p:xfrm>
          <a:off x="1428840" y="2286000"/>
          <a:ext cx="3119400" cy="95400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65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28840" y="2286000"/>
                    <a:ext cx="31194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8"/>
          <p:cNvGraphicFramePr/>
          <p:nvPr/>
        </p:nvGraphicFramePr>
        <p:xfrm>
          <a:off x="1285920" y="2786040"/>
          <a:ext cx="1287360" cy="65556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167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285920" y="2786040"/>
                    <a:ext cx="128736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31"/>
          <p:cNvGraphicFramePr/>
          <p:nvPr/>
        </p:nvGraphicFramePr>
        <p:xfrm>
          <a:off x="2428920" y="2786040"/>
          <a:ext cx="1500120" cy="531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0" name="Object 3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28920" y="2786040"/>
                    <a:ext cx="15001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33"/>
          <p:cNvGraphicFramePr/>
          <p:nvPr/>
        </p:nvGraphicFramePr>
        <p:xfrm>
          <a:off x="1285920" y="4357800"/>
          <a:ext cx="5429160" cy="1649160"/>
        </p:xfrm>
        <a:graphic>
          <a:graphicData uri="http://schemas.openxmlformats.org/presentationml/2006/ole">
            <p:oleObj progId="Word.Document.12" r:id="rId18" spid="">
              <p:embed/>
              <p:pic>
                <p:nvPicPr>
                  <p:cNvPr id="172" name="Object 3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285920" y="4357800"/>
                    <a:ext cx="542916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7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7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8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8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56"/>
          <p:cNvSpPr/>
          <p:nvPr/>
        </p:nvSpPr>
        <p:spPr>
          <a:xfrm>
            <a:off x="4264200" y="4428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分离变量的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8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9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" name="Object 2"/>
          <p:cNvGraphicFramePr/>
          <p:nvPr/>
        </p:nvGraphicFramePr>
        <p:xfrm>
          <a:off x="1000080" y="857160"/>
          <a:ext cx="5970600" cy="1216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857160"/>
                    <a:ext cx="597060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3"/>
          <p:cNvGraphicFramePr/>
          <p:nvPr/>
        </p:nvGraphicFramePr>
        <p:xfrm>
          <a:off x="928800" y="1428840"/>
          <a:ext cx="6715080" cy="1260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28800" y="1428840"/>
                    <a:ext cx="671508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30"/>
          <p:cNvGraphicFramePr/>
          <p:nvPr/>
        </p:nvGraphicFramePr>
        <p:xfrm>
          <a:off x="1143000" y="2138400"/>
          <a:ext cx="6494400" cy="12240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00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43000" y="2138400"/>
                    <a:ext cx="64944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1"/>
          <p:cNvGraphicFramePr/>
          <p:nvPr/>
        </p:nvGraphicFramePr>
        <p:xfrm>
          <a:off x="1785960" y="3571920"/>
          <a:ext cx="6431040" cy="135900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02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85960" y="3571920"/>
                    <a:ext cx="64310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32"/>
          <p:cNvGraphicFramePr/>
          <p:nvPr/>
        </p:nvGraphicFramePr>
        <p:xfrm>
          <a:off x="1000080" y="4214880"/>
          <a:ext cx="5711760" cy="128592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204" name="Object 3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00080" y="4214880"/>
                    <a:ext cx="57117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33"/>
          <p:cNvGraphicFramePr/>
          <p:nvPr/>
        </p:nvGraphicFramePr>
        <p:xfrm>
          <a:off x="1214280" y="2786040"/>
          <a:ext cx="7202520" cy="135720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206" name="Object 3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214280" y="2786040"/>
                    <a:ext cx="720252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0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1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1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1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56"/>
          <p:cNvSpPr/>
          <p:nvPr/>
        </p:nvSpPr>
        <p:spPr>
          <a:xfrm>
            <a:off x="4264200" y="4428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分离变量的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2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2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9" name="Object 4"/>
          <p:cNvGraphicFramePr/>
          <p:nvPr/>
        </p:nvGraphicFramePr>
        <p:xfrm>
          <a:off x="785880" y="928800"/>
          <a:ext cx="7477200" cy="1147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3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5880" y="928800"/>
                    <a:ext cx="747720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5"/>
          <p:cNvGraphicFramePr/>
          <p:nvPr/>
        </p:nvGraphicFramePr>
        <p:xfrm>
          <a:off x="857160" y="1500120"/>
          <a:ext cx="5000760" cy="14288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32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57160" y="1500120"/>
                    <a:ext cx="50007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6"/>
          <p:cNvGraphicFramePr/>
          <p:nvPr/>
        </p:nvGraphicFramePr>
        <p:xfrm>
          <a:off x="1571760" y="2286000"/>
          <a:ext cx="6238800" cy="12780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71760" y="2286000"/>
                    <a:ext cx="623880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7"/>
          <p:cNvGraphicFramePr/>
          <p:nvPr/>
        </p:nvGraphicFramePr>
        <p:xfrm>
          <a:off x="1643040" y="3857760"/>
          <a:ext cx="5560920" cy="106812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36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43040" y="3857760"/>
                    <a:ext cx="556092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11"/>
          <p:cNvGraphicFramePr/>
          <p:nvPr/>
        </p:nvGraphicFramePr>
        <p:xfrm>
          <a:off x="1071720" y="4500720"/>
          <a:ext cx="7176960" cy="114300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238" name="Object 1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71720" y="4500720"/>
                    <a:ext cx="7176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2"/>
          <p:cNvGraphicFramePr/>
          <p:nvPr/>
        </p:nvGraphicFramePr>
        <p:xfrm>
          <a:off x="1500120" y="3000240"/>
          <a:ext cx="6240600" cy="127800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240" name="Object 1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500120" y="3000240"/>
                    <a:ext cx="624060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4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4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4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5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53"/>
          <p:cNvSpPr/>
          <p:nvPr/>
        </p:nvSpPr>
        <p:spPr>
          <a:xfrm>
            <a:off x="4264200" y="4428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分离变量的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5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6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AutoShape 13"/>
          <p:cNvSpPr/>
          <p:nvPr/>
        </p:nvSpPr>
        <p:spPr>
          <a:xfrm>
            <a:off x="692280" y="1285200"/>
            <a:ext cx="1368360" cy="496440"/>
          </a:xfrm>
          <a:prstGeom prst="flowChartAlternateProcess">
            <a:avLst/>
          </a:prstGeom>
          <a:solidFill>
            <a:srgbClr val="edfba7"/>
          </a:solidFill>
          <a:ln w="38160">
            <a:solidFill>
              <a:srgbClr val="8e6900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105"/>
          <p:cNvGraphicFramePr/>
          <p:nvPr/>
        </p:nvGraphicFramePr>
        <p:xfrm>
          <a:off x="714240" y="1143000"/>
          <a:ext cx="6836040" cy="12175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65" name="Object 10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4240" y="1143000"/>
                    <a:ext cx="683604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107"/>
          <p:cNvGraphicFramePr/>
          <p:nvPr/>
        </p:nvGraphicFramePr>
        <p:xfrm>
          <a:off x="1857240" y="3071880"/>
          <a:ext cx="5268960" cy="1143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67" name="Object 10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57240" y="3071880"/>
                    <a:ext cx="5268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12"/>
          <p:cNvGraphicFramePr/>
          <p:nvPr/>
        </p:nvGraphicFramePr>
        <p:xfrm>
          <a:off x="1071720" y="1714680"/>
          <a:ext cx="6414840" cy="10299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69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71720" y="1714680"/>
                    <a:ext cx="6414840" cy="10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5"/>
          <p:cNvGraphicFramePr/>
          <p:nvPr/>
        </p:nvGraphicFramePr>
        <p:xfrm>
          <a:off x="2214720" y="2286000"/>
          <a:ext cx="5268600" cy="103032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71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4720" y="2286000"/>
                    <a:ext cx="526860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7"/>
          <p:cNvGraphicFramePr/>
          <p:nvPr/>
        </p:nvGraphicFramePr>
        <p:xfrm>
          <a:off x="642960" y="3857760"/>
          <a:ext cx="7786800" cy="142236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273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42960" y="3857760"/>
                    <a:ext cx="7786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7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7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8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8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50"/>
          <p:cNvSpPr/>
          <p:nvPr/>
        </p:nvSpPr>
        <p:spPr>
          <a:xfrm>
            <a:off x="2592360" y="2951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分离变量微分方程的特点和解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51"/>
          <p:cNvSpPr/>
          <p:nvPr/>
        </p:nvSpPr>
        <p:spPr>
          <a:xfrm>
            <a:off x="4264200" y="4428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分离变量的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9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9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1:01:20Z</dcterms:modified>
  <cp:revision>75</cp:revision>
  <dc:subject/>
  <dc:title>幻灯片 1</dc:title>
</cp:coreProperties>
</file>